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50D-83A9-4AF0-8B34-47BCA45D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A35-F6DA-4BF3-B4ED-3104B5BF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175-F4CC-4513-8670-9BCF81FD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1D7-B883-4881-B856-95562AD3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97F-B7D2-480C-ADDD-0A496376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601-C8AD-4015-A94F-A6F33C30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871-8241-448A-AC19-943C0474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214-1627-4788-A4E9-ADFB91C7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C20-BA83-4A87-B3C2-3337737B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4B7-F73C-4E05-99E3-B1DFCD4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472-366C-4224-BF50-28FB93D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9FC-3132-40A6-B213-472E392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29A0-08E5-40AE-B622-399259EBD3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Cardiopulmonary Resuscitation (CPR)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SASA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YOU SHOULD ALWAYS TILT THE HEAD BACK AND SQUEEZE THE NOSIE FO AI TO BE INSERTED TO THE LUNGS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N AFTE YOU MUST PUMP THE AIR THOUGH THE LUNGS USING THE PUMP THE HEART METHOD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SQUIT DOWN IN PUSH HARD ON THE VITEMS CHEST 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YOU ALSO MUST CHECK THE PATIANTS BREATHING TO CHECK FO A PULSE.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55:43Z</dcterms:created>
  <dc:creator>004student</dc:creator>
  <dc:description/>
  <dc:language>en-US</dc:language>
  <cp:lastModifiedBy>004student</cp:lastModifiedBy>
  <dcterms:modified xsi:type="dcterms:W3CDTF">2009-01-12T16:58:31Z</dcterms:modified>
  <cp:revision>2</cp:revision>
  <dc:subject/>
  <dc:title>Cardiopulmonary Resuscitation (CPR) </dc:title>
</cp:coreProperties>
</file>